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937-3289-4899-BAE3-C1A10644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AE3-D252-4986-AA82-252A034F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C18-426A-49BE-8BCA-7B8C7AD0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125-DC7E-4186-A462-DB8DCABB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A1E2-D560-4187-8B28-51046307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48AE-20F9-4EB4-B395-58A5FAF2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EF4-CA7E-4671-B884-6509F8FA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C81E-910D-48A4-AB19-B6510B42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85FC-26EB-4467-982E-3A0D7FDF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7144-4796-4DF8-9351-3707DD28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C659-84C5-45C2-A3C9-4D18C43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2F2-A2CE-4483-961B-4BE83DD5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1D13-FC75-421C-A602-07EA067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0161-00B0-4891-8071-070A1747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C3E0-229F-435C-A13E-16345248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8C4-40FA-4D5C-93AD-70AC0DA1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33964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374720" y="342900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33964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374720" y="4344840"/>
            <a:ext cx="193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E84D-233B-439C-A9BA-F92CF2D5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DEA-DFCC-494C-91B6-3D7029E7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00E-88D9-4E14-B5CB-BF8CB63B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A4C-9AC3-4F76-AACB-CC13672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56320"/>
            <a:ext cx="624816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A0A-5BF2-4803-9DCB-40FA4399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51A-781C-4B5D-967C-DC77ACB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89040" y="434484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57D-F3A6-4387-B4E5-56EE92BB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89040" y="3429000"/>
            <a:ext cx="2937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4840"/>
            <a:ext cx="60195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A5C-CD97-48D8-9C66-1750B62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6830-15CB-4976-9B35-6DC9A2799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DF96-0A8A-4E8D-895E-41BDF2273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54240"/>
            <a:ext cx="624852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My daily language use</a:t>
            </a:r>
            <a:br>
              <a:rPr sz="2000"/>
            </a:br>
            <a:r>
              <a:rPr b="1" lang="en-AU" sz="12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2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A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is the percentage of use of the various language skills for your daily communication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B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percentage of use of the various language skills would your students need for their daily communication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C.</a:t>
            </a:r>
            <a:r>
              <a:rPr b="1" lang="en-A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  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What percentage of use of the various language skills would your students need for communication in their future life?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a) Listening comprehension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b) Speak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c) Read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(d) Writing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	</a:t>
            </a:r>
            <a:r>
              <a:rPr b="1" lang="en-AU" sz="14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….. %</a:t>
            </a:r>
            <a:br>
              <a:rPr sz="1400"/>
            </a:br>
            <a:r>
              <a:rPr b="1" lang="en-AU" sz="12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endParaRPr b="0" lang="en-US" sz="1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27000"/>
            <a:ext cx="6248520" cy="37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"Of all the time spent in communicative activities, adults devote</a:t>
            </a:r>
            <a:r>
              <a:rPr b="1" lang="en-GB" sz="3200" spc="-1" strike="noStrike">
                <a:solidFill>
                  <a:srgbClr val="003300"/>
                </a:solidFill>
                <a:latin typeface="NewCenturySchlbk"/>
              </a:rPr>
              <a:t>:</a:t>
            </a:r>
            <a:br>
              <a:rPr sz="3200"/>
            </a:br>
            <a:br>
              <a:rPr sz="16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45% of their energies to listening, 30% to speaking, 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16% to reading and </a:t>
            </a:r>
            <a:br>
              <a:rPr sz="3200"/>
            </a:br>
            <a:r>
              <a:rPr b="1" lang="en-GB" sz="3200" spc="-1" strike="noStrike">
                <a:solidFill>
                  <a:srgbClr val="003300"/>
                </a:solidFill>
                <a:latin typeface="NewCenturySchlbk"/>
              </a:rPr>
              <a:t>0</a:t>
            </a: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9% to writing."</a:t>
            </a:r>
            <a:r>
              <a:rPr b="1" lang="en-US" sz="2800" spc="-1" strike="noStrike">
                <a:solidFill>
                  <a:srgbClr val="003300"/>
                </a:solidFill>
                <a:latin typeface="NewCenturySchlbk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160" y="502920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Wilga Rivers, </a:t>
            </a:r>
            <a:r>
              <a:rPr b="1" i="1" lang="en-US" sz="2400" spc="-1" strike="noStrike">
                <a:solidFill>
                  <a:srgbClr val="000000"/>
                </a:solidFill>
                <a:latin typeface="NewCenturySchlbk"/>
              </a:rPr>
              <a:t>A Practical Guide to the Teaching of French</a:t>
            </a:r>
            <a:r>
              <a:rPr b="1" lang="en-US" sz="2400" spc="-1" strike="noStrike">
                <a:solidFill>
                  <a:srgbClr val="000000"/>
                </a:solidFill>
                <a:latin typeface="NewCenturySchlb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624816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Write a list of the oral or written text-types you come across in your daily life: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Examples: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a) a telephone conversation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b) a song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c) radio news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d) a conversation in a shop 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e) email messag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f) SMS messag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g) recip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h) newspaper / magazine article</a:t>
            </a:r>
            <a:br>
              <a:rPr sz="1800"/>
            </a:br>
            <a:r>
              <a:rPr b="1" lang="en-US" sz="1800" spc="-1" strike="noStrike">
                <a:solidFill>
                  <a:srgbClr val="003300"/>
                </a:solidFill>
                <a:latin typeface="NewCenturySchlbk"/>
              </a:rPr>
              <a:t>(i) Internet advertisement</a:t>
            </a: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6248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NewCenturySchlbk"/>
              </a:rPr>
              <a:t>List of oral or written text-types one may come across his or her daily life:</a:t>
            </a:r>
            <a:br>
              <a:rPr sz="3200"/>
            </a:br>
            <a:br>
              <a:rPr sz="32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r>
              <a:rPr b="1" lang="en-AU" sz="1800" spc="-1" strike="noStrike">
                <a:solidFill>
                  <a:srgbClr val="003300"/>
                </a:solidFill>
                <a:latin typeface="NewCenturySchlbk"/>
                <a:ea typeface="Times New Roman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523880"/>
          <a:ext cx="6477120" cy="48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647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221480"/>
            <a:ext cx="6248160" cy="44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Text-Type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(a) Speaking: Write a list of as many oral text-types as you can think of.</a:t>
            </a:r>
            <a:br>
              <a:rPr sz="3200"/>
            </a:br>
            <a:r>
              <a:rPr b="1" lang="en-US" sz="3200" spc="-1" strike="noStrike">
                <a:solidFill>
                  <a:srgbClr val="003300"/>
                </a:solidFill>
                <a:latin typeface="NewCenturySchlbk"/>
              </a:rPr>
              <a:t> (b) Writing: Write a list of as many written text-types as you can think of. </a:t>
            </a:r>
            <a:br>
              <a:rPr sz="3200"/>
            </a:b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5:29:39Z</dcterms:created>
  <dc:creator>sal</dc:creator>
  <dc:description/>
  <dc:language>en-US</dc:language>
  <cp:lastModifiedBy>Sofocleous</cp:lastModifiedBy>
  <dcterms:modified xsi:type="dcterms:W3CDTF">2008-02-21T15:41:35Z</dcterms:modified>
  <cp:revision>10</cp:revision>
  <dc:subject/>
  <dc:title>"Of all the time spent in communicative activities, adults devote 45% of their energies to listening, 30% to speaking, 16% to reading and 9% to writing." </dc:title>
</cp:coreProperties>
</file>